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ricochet.wav" ContentType="audio/x-wav"/>
  <Override PartName="/ppt/media/image16.png" ContentType="image/png"/>
  <Override PartName="/ppt/media/chimes.wav" ContentType="audio/x-wav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3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9BFC-826F-420C-9E62-3F08EBF6E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61A0-DA53-483D-877B-C6AE4F57ADE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FC8C-44DB-4815-838F-36864FADA3A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25D-15AA-4289-A1B7-C2E94F20DD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DC31-0A49-416E-A8C4-504654BC5C0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A5A8-A9A0-4424-B64E-2B11EF9EE4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16F-C1BA-4A32-B030-1461DD334F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3D71-EA94-4CC0-9CB6-F4816410D6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BA51-3303-4A4C-B5F2-9D391B615E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6C17-44E8-40D5-B752-8D4DAB378F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E7E3-DCAB-48B5-BDB3-FA09BBBBB5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1FDD-1820-4B67-8C09-94A48AC6C0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1C35-CFF7-421A-A682-2DDEE47C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803-1E16-4669-8A5D-58A91017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13C-DB79-41D5-8270-E1B508A2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0CD-62F0-4F67-87E2-E0FACCBA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677-55C2-48D6-BD99-5280F226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4DD-3459-4310-ACEE-8668B717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C06-8D88-46C5-8F5B-C6EFF3BA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392-5E0D-4257-9589-BCF2B1A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BC0-4369-4C21-8648-F18CBCF5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9F8-6BDF-44A0-9869-14194094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6B0-4083-4457-9F72-22EB1A3F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E27B-AD0B-45E4-AF03-49507A6D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0521-08FF-498F-890B-0123B533DEA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3.xml"/><Relationship Id="rId15" Type="http://schemas.openxmlformats.org/officeDocument/2006/relationships/slide" Target="slide24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33.xml"/><Relationship Id="rId10" Type="http://schemas.openxmlformats.org/officeDocument/2006/relationships/slide" Target="slide34.xml"/><Relationship Id="rId11" Type="http://schemas.openxmlformats.org/officeDocument/2006/relationships/slide" Target="slide35.xml"/><Relationship Id="rId12" Type="http://schemas.openxmlformats.org/officeDocument/2006/relationships/slide" Target="slide41.xml"/><Relationship Id="rId13" Type="http://schemas.openxmlformats.org/officeDocument/2006/relationships/slide" Target="slide42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5.xml"/><Relationship Id="rId17" Type="http://schemas.openxmlformats.org/officeDocument/2006/relationships/slide" Target="slide37.xml"/><Relationship Id="rId18" Type="http://schemas.openxmlformats.org/officeDocument/2006/relationships/slide" Target="slide38.xml"/><Relationship Id="rId19" Type="http://schemas.openxmlformats.org/officeDocument/2006/relationships/slide" Target="slide52.xml"/><Relationship Id="rId20" Type="http://schemas.openxmlformats.org/officeDocument/2006/relationships/slide" Target="slide39.xml"/><Relationship Id="rId21" Type="http://schemas.openxmlformats.org/officeDocument/2006/relationships/slide" Target="slide40.xml"/><Relationship Id="rId2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ip_70688_0_HWh4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963720" y="4211640"/>
            <a:ext cx="743112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3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Управляющая кнопка: возврат 2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643120" y="1285920"/>
            <a:ext cx="5286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Определите вид функци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Calibri"/>
              </a:rPr>
              <a:t>y=ax+b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4" descr="си3"/>
          <p:cNvPicPr/>
          <p:nvPr/>
        </p:nvPicPr>
        <p:blipFill>
          <a:blip r:embed="rId1"/>
          <a:stretch/>
        </p:blipFill>
        <p:spPr>
          <a:xfrm>
            <a:off x="-36360" y="18900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Управляющая кнопка: возврат 2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627280" y="1557360"/>
            <a:ext cx="5286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Cambria"/>
              </a:rPr>
              <a:t>На этом месте в устье Невы выдающийся новгородский князь разбил шведов. А спустя 463 года здесь застучали топоры, по приказу царя началось строительство новой столицы. О каком городе идет реч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5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Управляющая кнопка: возврат 2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74560" y="1214280"/>
            <a:ext cx="856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Множество точек координатной плоскости, абсциссы которы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равны значениям аргумента, а ординаты – значениям функц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" descr="Вершина"/>
          <p:cNvPicPr/>
          <p:nvPr/>
        </p:nvPicPr>
        <p:blipFill>
          <a:blip r:embed="rId1"/>
          <a:stretch/>
        </p:blipFill>
        <p:spPr>
          <a:xfrm>
            <a:off x="1928880" y="2143080"/>
            <a:ext cx="5357880" cy="3919680"/>
          </a:xfrm>
          <a:prstGeom prst="rect">
            <a:avLst/>
          </a:prstGeom>
          <a:ln w="0">
            <a:noFill/>
          </a:ln>
        </p:spPr>
      </p:pic>
      <p:sp>
        <p:nvSpPr>
          <p:cNvPr id="89" name="Управляющая кнопка: возврат 4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" descr="Степень"/>
          <p:cNvPicPr/>
          <p:nvPr/>
        </p:nvPicPr>
        <p:blipFill>
          <a:blip r:embed="rId1"/>
          <a:stretch/>
        </p:blipFill>
        <p:spPr>
          <a:xfrm>
            <a:off x="2214720" y="2071800"/>
            <a:ext cx="5429160" cy="30286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3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" descr="Дробь"/>
          <p:cNvPicPr/>
          <p:nvPr/>
        </p:nvPicPr>
        <p:blipFill>
          <a:blip r:embed="rId1"/>
          <a:stretch/>
        </p:blipFill>
        <p:spPr>
          <a:xfrm>
            <a:off x="2643120" y="2071800"/>
            <a:ext cx="4857840" cy="237780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" descr="Числитель"/>
          <p:cNvPicPr/>
          <p:nvPr/>
        </p:nvPicPr>
        <p:blipFill>
          <a:blip r:embed="rId1"/>
          <a:stretch/>
        </p:blipFill>
        <p:spPr>
          <a:xfrm>
            <a:off x="2000160" y="2500200"/>
            <a:ext cx="5214960" cy="2773440"/>
          </a:xfrm>
          <a:prstGeom prst="rect">
            <a:avLst/>
          </a:prstGeom>
          <a:ln w="0">
            <a:noFill/>
          </a:ln>
        </p:spPr>
      </p:pic>
      <p:sp>
        <p:nvSpPr>
          <p:cNvPr id="98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5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snap0540"/>
          <p:cNvPicPr/>
          <p:nvPr/>
        </p:nvPicPr>
        <p:blipFill>
          <a:blip r:embed="rId1"/>
          <a:stretch/>
        </p:blipFill>
        <p:spPr>
          <a:xfrm>
            <a:off x="1785960" y="2000160"/>
            <a:ext cx="6072120" cy="3195720"/>
          </a:xfrm>
          <a:prstGeom prst="rect">
            <a:avLst/>
          </a:prstGeom>
          <a:ln w="0">
            <a:noFill/>
          </a:ln>
        </p:spPr>
      </p:pic>
      <p:sp>
        <p:nvSpPr>
          <p:cNvPr id="101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Овал 1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143080" y="571680"/>
            <a:ext cx="6264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Так называют одну из самых древних наук, в переводе означающую «землемерие»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57120" y="1500120"/>
          <a:ext cx="8358120" cy="4786560"/>
        </p:xfrm>
        <a:graphic>
          <a:graphicData uri="http://schemas.openxmlformats.org/drawingml/2006/table">
            <a:tbl>
              <a:tblPr/>
              <a:tblGrid>
                <a:gridCol w="2030400"/>
                <a:gridCol w="1251000"/>
                <a:gridCol w="1249560"/>
                <a:gridCol w="1326960"/>
                <a:gridCol w="1328760"/>
                <a:gridCol w="1171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Calibri"/>
                          <a:ea typeface="Times New Roman"/>
                        </a:rPr>
                        <a:t>Основы математ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Calibri"/>
                        </a:rPr>
                        <a:t>Формулы и о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Calibri"/>
                        </a:rPr>
                        <a:t>История математ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Calibri"/>
                        </a:rPr>
                        <a:t>Ребу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3" name="Прямоугольник 2" descr=""/>
          <p:cNvPicPr/>
          <p:nvPr/>
        </p:nvPicPr>
        <p:blipFill>
          <a:blip r:embed="rId21"/>
          <a:stretch/>
        </p:blipFill>
        <p:spPr>
          <a:xfrm>
            <a:off x="1652760" y="92160"/>
            <a:ext cx="5559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Овал 1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43080" y="785880"/>
            <a:ext cx="6264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2428920" y="671400"/>
            <a:ext cx="5500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Почему древние греки называли 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геометрию</a:t>
            </a: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 пыльной работой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6" descr="Безымянный2.JPG"/>
          <p:cNvPicPr/>
          <p:nvPr/>
        </p:nvPicPr>
        <p:blipFill>
          <a:blip r:embed="rId1"/>
          <a:srcRect l="0" t="0" r="20313" b="26688"/>
          <a:stretch/>
        </p:blipFill>
        <p:spPr>
          <a:xfrm>
            <a:off x="-880920" y="58680"/>
            <a:ext cx="10024920" cy="6799320"/>
          </a:xfrm>
          <a:prstGeom prst="rect">
            <a:avLst/>
          </a:prstGeom>
          <a:ln w="0">
            <a:noFill/>
          </a:ln>
        </p:spPr>
      </p:pic>
      <p:grpSp>
        <p:nvGrpSpPr>
          <p:cNvPr id="110" name="Группа 17"/>
          <p:cNvGrpSpPr/>
          <p:nvPr/>
        </p:nvGrpSpPr>
        <p:grpSpPr>
          <a:xfrm>
            <a:off x="3000240" y="1000080"/>
            <a:ext cx="6328080" cy="3855960"/>
            <a:chOff x="3000240" y="1000080"/>
            <a:chExt cx="6328080" cy="3855960"/>
          </a:xfrm>
        </p:grpSpPr>
        <p:sp>
          <p:nvSpPr>
            <p:cNvPr id="111" name="TextBox 9"/>
            <p:cNvSpPr/>
            <p:nvPr/>
          </p:nvSpPr>
          <p:spPr>
            <a:xfrm>
              <a:off x="8437680" y="2921760"/>
              <a:ext cx="163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8121960" y="1609920"/>
              <a:ext cx="16272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6042240" y="1000080"/>
              <a:ext cx="3286080" cy="305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Группа 16"/>
            <p:cNvGrpSpPr/>
            <p:nvPr/>
          </p:nvGrpSpPr>
          <p:grpSpPr>
            <a:xfrm>
              <a:off x="3000240" y="1485360"/>
              <a:ext cx="4145040" cy="3370680"/>
              <a:chOff x="3000240" y="1485360"/>
              <a:chExt cx="4145040" cy="3370680"/>
            </a:xfrm>
          </p:grpSpPr>
          <p:sp>
            <p:nvSpPr>
              <p:cNvPr id="115" name="TextBox 7"/>
              <p:cNvSpPr/>
              <p:nvPr/>
            </p:nvSpPr>
            <p:spPr>
              <a:xfrm>
                <a:off x="4939920" y="2741040"/>
                <a:ext cx="17280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6" name="Прямоугольник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7000" y="1485360"/>
                <a:ext cx="3507840" cy="257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Прямоугольник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000240" y="3349440"/>
                <a:ext cx="4145040" cy="150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1"/>
          <p:cNvSpPr/>
          <p:nvPr/>
        </p:nvSpPr>
        <p:spPr>
          <a:xfrm>
            <a:off x="357120" y="357120"/>
            <a:ext cx="37148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укци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57120" y="1349280"/>
            <a:ext cx="878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Имя этого греческого политического и религиозного деятеля в наши дни чаще всего звучит на уроках математик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вал 1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500040" y="1225440"/>
            <a:ext cx="8643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libri"/>
              </a:rPr>
              <a:t>Знаменитый мудрец не был ее первооткрывателем, так как о ней знали и ранее его соотечественники, египтяне, вавилоняне и китайцы. И, конечно, она не имеет никакого отношения к определенному виду одежды, потому что в то время в стране этого ученого такого не носили. Назовите е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Овал 1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1341360"/>
            <a:ext cx="9358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libri"/>
              </a:rPr>
              <a:t>В Древнем Египте и в  Древней Греции задолго до нашей эры использовали это устройство, предназначенное для вычислений. Это была доска 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libri"/>
              </a:rPr>
              <a:t>полосками, по которым передвигались камеш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libri"/>
              </a:rPr>
              <a:t>Что эт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абак"/>
          <p:cNvPicPr/>
          <p:nvPr/>
        </p:nvPicPr>
        <p:blipFill>
          <a:blip r:embed="rId1"/>
          <a:stretch/>
        </p:blipFill>
        <p:spPr>
          <a:xfrm>
            <a:off x="3714840" y="4929120"/>
            <a:ext cx="2160360" cy="192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7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2" descr=""/>
          <p:cNvPicPr/>
          <p:nvPr/>
        </p:nvPicPr>
        <p:blipFill>
          <a:blip r:embed="rId1"/>
          <a:stretch/>
        </p:blipFill>
        <p:spPr>
          <a:xfrm>
            <a:off x="1652760" y="92160"/>
            <a:ext cx="548640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57120" y="1857240"/>
          <a:ext cx="8429760" cy="4104000"/>
        </p:xfrm>
        <a:graphic>
          <a:graphicData uri="http://schemas.openxmlformats.org/drawingml/2006/table">
            <a:tbl>
              <a:tblPr/>
              <a:tblGrid>
                <a:gridCol w="2857680"/>
                <a:gridCol w="1000080"/>
                <a:gridCol w="1000080"/>
                <a:gridCol w="1073160"/>
                <a:gridCol w="1249200"/>
                <a:gridCol w="1249560"/>
              </a:tblGrid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108"/>
          <p:cNvSpPr/>
          <p:nvPr/>
        </p:nvSpPr>
        <p:spPr>
          <a:xfrm>
            <a:off x="857160" y="2214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alibri"/>
              </a:rPr>
              <a:t>Устный счё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0"/>
          <p:cNvSpPr/>
          <p:nvPr/>
        </p:nvSpPr>
        <p:spPr>
          <a:xfrm>
            <a:off x="468360" y="3087720"/>
            <a:ext cx="23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alibri"/>
              </a:rPr>
              <a:t>Единицы изме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2"/>
          <p:cNvSpPr/>
          <p:nvPr/>
        </p:nvSpPr>
        <p:spPr>
          <a:xfrm>
            <a:off x="571680" y="400068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alibri"/>
              </a:rPr>
              <a:t>Математические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14"/>
          <p:cNvSpPr/>
          <p:nvPr/>
        </p:nvSpPr>
        <p:spPr>
          <a:xfrm>
            <a:off x="468360" y="5157720"/>
            <a:ext cx="26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 Narrow"/>
              </a:rPr>
              <a:t>Учёные-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285920" y="714240"/>
            <a:ext cx="7858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Если 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угол</a:t>
            </a: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 равен 80 градусам, то 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угол</a:t>
            </a: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, вертикальный ему, равен... 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Овал 2"/>
          <p:cNvSpPr/>
          <p:nvPr/>
        </p:nvSpPr>
        <p:spPr>
          <a:xfrm>
            <a:off x="428760" y="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85960" y="1928880"/>
            <a:ext cx="67644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Кубический корень из этого числа равен 4, а квадратный 8.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Овал 7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Управляющая кнопка: возврат 8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856880" y="1857240"/>
            <a:ext cx="657540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Сколько будет, если  полсотни разделить на  ½?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Овал 4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6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14320" y="1857240"/>
            <a:ext cx="6670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ff"/>
                </a:solidFill>
                <a:latin typeface="Calibri"/>
              </a:rPr>
              <a:t>Два числа перемножили и получили 24. Затем одно из них разделили на другое – и снова получили 24. Что это за числа?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Овал 4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8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2428920" y="1071720"/>
            <a:ext cx="6429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В школе ее знают как крысу, бегущую по углам и делящую 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угол</a:t>
            </a: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 пополам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Овал 3"/>
          <p:cNvSpPr/>
          <p:nvPr/>
        </p:nvSpPr>
        <p:spPr>
          <a:xfrm>
            <a:off x="785880" y="357120"/>
            <a:ext cx="192888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>
            <a:off x="1357200" y="2643120"/>
            <a:ext cx="6929640" cy="37148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 flipH="1" flipV="1">
            <a:off x="4071960" y="1142640"/>
            <a:ext cx="1000080" cy="35002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Дуга 12"/>
          <p:cNvSpPr/>
          <p:nvPr/>
        </p:nvSpPr>
        <p:spPr>
          <a:xfrm flipH="1">
            <a:off x="4500720" y="3857760"/>
            <a:ext cx="1071360" cy="1500120"/>
          </a:xfrm>
          <a:custGeom>
            <a:avLst/>
            <a:gdLst>
              <a:gd name="textAreaLeft" fmla="*/ 726480 w 1071360"/>
              <a:gd name="textAreaRight" fmla="*/ 1048320 w 1071360"/>
              <a:gd name="textAreaTop" fmla="*/ 48960 h 1500120"/>
              <a:gd name="textAreaBottom" fmla="*/ 531360 h 1500120"/>
            </a:gdLst>
            <a:ahLst/>
            <a:rect l="textAreaLeft" t="textAreaTop" r="textAreaRight" b="textAreaBottom"/>
            <a:pathLst>
              <a:path stroke="0" w="1071562" h="1500188">
                <a:moveTo>
                  <a:pt x="726399" y="49078"/>
                </a:moveTo>
                <a:lnTo>
                  <a:pt x="726399" y="49078"/>
                </a:lnTo>
                <a:arcTo wR="535781" hR="750094" stAng="-4487287" swAng="3100463"/>
                <a:lnTo>
                  <a:pt x="535781" y="750094"/>
                </a:lnTo>
                <a:close/>
              </a:path>
              <a:path fill="none" w="1071562" h="1500188">
                <a:moveTo>
                  <a:pt x="726399" y="49078"/>
                </a:moveTo>
                <a:lnTo>
                  <a:pt x="726399" y="49078"/>
                </a:lnTo>
                <a:arcTo wR="535781" hR="750094" stAng="-4487287" swAng="3100463"/>
              </a:path>
            </a:pathLst>
          </a:custGeom>
          <a:solidFill>
            <a:srgbClr val="ffff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1518480" y="5286240"/>
            <a:ext cx="292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0" lang="el-GR" sz="48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= 1 :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3717720" y="278604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5"/>
          <p:cNvSpPr/>
          <p:nvPr/>
        </p:nvSpPr>
        <p:spPr>
          <a:xfrm>
            <a:off x="5500800" y="3500280"/>
            <a:ext cx="1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Дуга 16"/>
          <p:cNvSpPr/>
          <p:nvPr/>
        </p:nvSpPr>
        <p:spPr>
          <a:xfrm>
            <a:off x="4429080" y="4143240"/>
            <a:ext cx="1214640" cy="1000440"/>
          </a:xfrm>
          <a:custGeom>
            <a:avLst/>
            <a:gdLst>
              <a:gd name="textAreaLeft" fmla="*/ 506880 w 1214640"/>
              <a:gd name="textAreaRight" fmla="*/ 1215000 w 1214640"/>
              <a:gd name="textAreaTop" fmla="*/ 0 h 1000440"/>
              <a:gd name="textAreaBottom" fmla="*/ 721800 h 1000440"/>
            </a:gdLst>
            <a:ahLst/>
            <a:rect l="textAreaLeft" t="textAreaTop" r="textAreaRight" b="textAreaBottom"/>
            <a:pathLst>
              <a:path stroke="0" w="1214438" h="1000125">
                <a:moveTo>
                  <a:pt x="506982" y="6860"/>
                </a:moveTo>
                <a:lnTo>
                  <a:pt x="506982" y="6860"/>
                </a:lnTo>
                <a:arcTo wR="607219" hR="500063" stAng="-6089289" swAng="7417270"/>
                <a:lnTo>
                  <a:pt x="607219" y="500063"/>
                </a:lnTo>
                <a:close/>
              </a:path>
              <a:path fill="none" w="1214438" h="1000125">
                <a:moveTo>
                  <a:pt x="506982" y="6860"/>
                </a:moveTo>
                <a:lnTo>
                  <a:pt x="506982" y="6860"/>
                </a:lnTo>
                <a:arcTo wR="607219" hR="500063" stAng="-6089289" swAng="7417270"/>
              </a:path>
            </a:pathLst>
          </a:custGeom>
          <a:solidFill>
            <a:srgbClr val="00b05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072040" y="571680"/>
            <a:ext cx="407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Найти градусную меру уг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Управляющая кнопка: возврат 19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835280" y="2120760"/>
            <a:ext cx="63100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колько квадратных метров содержится в квадратном километре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835280" y="2265480"/>
            <a:ext cx="631008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этих единицах измеряют массу алмаз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2"/>
          <p:cNvSpPr/>
          <p:nvPr/>
        </p:nvSpPr>
        <p:spPr>
          <a:xfrm>
            <a:off x="826920" y="404640"/>
            <a:ext cx="164340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835280" y="1700280"/>
            <a:ext cx="6454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к называют площадь квадрата со стороной 10 метров. В этой единице измеряют площади небольших участ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2"/>
          <p:cNvSpPr/>
          <p:nvPr/>
        </p:nvSpPr>
        <p:spPr>
          <a:xfrm>
            <a:off x="684360" y="33336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6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906560" y="2492280"/>
            <a:ext cx="6121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ff"/>
                </a:solidFill>
                <a:latin typeface="Arial"/>
              </a:rPr>
              <a:t>Это длилось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ff"/>
                </a:solidFill>
                <a:latin typeface="Arial"/>
              </a:rPr>
              <a:t>13 раз по 11 недель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8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4" descr="си3"/>
          <p:cNvPicPr/>
          <p:nvPr/>
        </p:nvPicPr>
        <p:blipFill>
          <a:blip r:embed="rId1"/>
          <a:stretch/>
        </p:blipFill>
        <p:spPr>
          <a:xfrm>
            <a:off x="-36360" y="18900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1906560" y="2492280"/>
            <a:ext cx="6121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этих единицах моряки измеряют расстоя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 2"/>
          <p:cNvSpPr/>
          <p:nvPr/>
        </p:nvSpPr>
        <p:spPr>
          <a:xfrm>
            <a:off x="785880" y="357120"/>
            <a:ext cx="198576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908000" y="2492280"/>
            <a:ext cx="669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вая русская женщина – математи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i?id=21513323&amp;tov=0"/>
          <p:cNvPicPr/>
          <p:nvPr/>
        </p:nvPicPr>
        <p:blipFill>
          <a:blip r:embed="rId3"/>
          <a:stretch/>
        </p:blipFill>
        <p:spPr>
          <a:xfrm>
            <a:off x="3780000" y="4221000"/>
            <a:ext cx="1434960" cy="2160720"/>
          </a:xfrm>
          <a:prstGeom prst="rect">
            <a:avLst/>
          </a:prstGeom>
          <a:ln w="0">
            <a:noFill/>
          </a:ln>
        </p:spPr>
      </p:pic>
      <p:sp>
        <p:nvSpPr>
          <p:cNvPr id="177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835280" y="2418840"/>
            <a:ext cx="709272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тот греческий учёный (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ек до н.э.) и его ученики изучали вопрос о делимости чисел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Пифагор"/>
          <p:cNvPicPr/>
          <p:nvPr/>
        </p:nvPicPr>
        <p:blipFill>
          <a:blip r:embed="rId3"/>
          <a:stretch/>
        </p:blipFill>
        <p:spPr>
          <a:xfrm>
            <a:off x="6948360" y="203040"/>
            <a:ext cx="1770120" cy="200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1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763640" y="2120760"/>
            <a:ext cx="730908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му учёному-химику в нашей стране принадлежат большие заслуги во введении и распространении метрической системы ме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Менделеев"/>
          <p:cNvPicPr/>
          <p:nvPr/>
        </p:nvPicPr>
        <p:blipFill>
          <a:blip r:embed="rId3"/>
          <a:stretch/>
        </p:blipFill>
        <p:spPr>
          <a:xfrm>
            <a:off x="6948360" y="190440"/>
            <a:ext cx="1838520" cy="1870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5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8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2960" y="1714680"/>
            <a:ext cx="7572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  <a:ea typeface="Times New Roman"/>
              </a:rPr>
              <a:t>Как определить, делится ли число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  <a:ea typeface="Times New Roman"/>
              </a:rPr>
              <a:t>на 9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2"/>
          <p:cNvSpPr/>
          <p:nvPr/>
        </p:nvSpPr>
        <p:spPr>
          <a:xfrm>
            <a:off x="42876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i?id=32494465&amp;tov=7"/>
          <p:cNvPicPr/>
          <p:nvPr/>
        </p:nvPicPr>
        <p:blipFill>
          <a:blip r:embed="rId1"/>
          <a:stretch/>
        </p:blipFill>
        <p:spPr>
          <a:xfrm>
            <a:off x="1332000" y="1484280"/>
            <a:ext cx="1766880" cy="2233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3276720" y="404640"/>
            <a:ext cx="48243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mbria"/>
              </a:rPr>
              <a:t>Немецкий философ, математик, физик и языкове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mbria"/>
              </a:rPr>
              <a:t>Ввел многие понятия и символы, употребляемые в математике и сейчас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Овал 2"/>
          <p:cNvSpPr/>
          <p:nvPr/>
        </p:nvSpPr>
        <p:spPr>
          <a:xfrm>
            <a:off x="539640" y="260280"/>
            <a:ext cx="18716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1476360" y="2349360"/>
            <a:ext cx="6284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mbria"/>
              </a:rPr>
              <a:t>Способы задания функци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763640" y="692280"/>
            <a:ext cx="55659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mbria"/>
              </a:rPr>
              <a:t>Графиком какой функции является парабол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384200" y="766800"/>
            <a:ext cx="7075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mbria"/>
              </a:rPr>
              <a:t>Как называется график функции</a:t>
            </a:r>
            <a:r>
              <a:rPr b="0" lang="en-US" sz="6600" spc="-1" strike="noStrike">
                <a:solidFill>
                  <a:srgbClr val="00ffff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mbria"/>
              </a:rPr>
              <a:t>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Arial"/>
              </a:rPr>
              <a:t>y</a:t>
            </a:r>
            <a:r>
              <a:rPr b="0" lang="ru-RU" sz="6600" spc="-1" strike="noStrike">
                <a:solidFill>
                  <a:srgbClr val="00ffff"/>
                </a:solidFill>
                <a:latin typeface="Arial"/>
              </a:rPr>
              <a:t>=</a:t>
            </a:r>
            <a:r>
              <a:rPr b="0" lang="en-US" sz="66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ru-RU" sz="6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Овал 2"/>
          <p:cNvSpPr/>
          <p:nvPr/>
        </p:nvSpPr>
        <p:spPr>
          <a:xfrm>
            <a:off x="324000" y="1159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6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042920" y="2133720"/>
            <a:ext cx="743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ff"/>
                </a:solidFill>
                <a:latin typeface="Cambria"/>
              </a:rPr>
              <a:t>Переведите на язык математики: «Враг моего друга - мне враг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8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195640" y="620640"/>
            <a:ext cx="619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Под каким углом пересекаются биссектрисы тупого и острого углов параллелограмм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Овал 2"/>
          <p:cNvSpPr/>
          <p:nvPr/>
        </p:nvSpPr>
        <p:spPr>
          <a:xfrm>
            <a:off x="395280" y="357120"/>
            <a:ext cx="20336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1714680" y="1143000"/>
            <a:ext cx="6143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Прямоугольник 9" descr=""/>
          <p:cNvPicPr/>
          <p:nvPr/>
        </p:nvPicPr>
        <p:blipFill>
          <a:blip r:embed="rId1"/>
          <a:stretch/>
        </p:blipFill>
        <p:spPr>
          <a:xfrm>
            <a:off x="2876400" y="969840"/>
            <a:ext cx="3335400" cy="18162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6"/>
          <p:cNvSpPr/>
          <p:nvPr/>
        </p:nvSpPr>
        <p:spPr>
          <a:xfrm>
            <a:off x="1714680" y="3143160"/>
            <a:ext cx="6143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Прямоугольник 10" descr=""/>
          <p:cNvPicPr/>
          <p:nvPr/>
        </p:nvPicPr>
        <p:blipFill>
          <a:blip r:embed="rId2"/>
          <a:stretch/>
        </p:blipFill>
        <p:spPr>
          <a:xfrm>
            <a:off x="3024360" y="2968560"/>
            <a:ext cx="3852720" cy="18226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7"/>
          <p:cNvSpPr/>
          <p:nvPr/>
        </p:nvSpPr>
        <p:spPr>
          <a:xfrm>
            <a:off x="1714680" y="2143080"/>
            <a:ext cx="6143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Прямоугольник 11" descr=""/>
          <p:cNvPicPr/>
          <p:nvPr/>
        </p:nvPicPr>
        <p:blipFill>
          <a:blip r:embed="rId3"/>
          <a:stretch/>
        </p:blipFill>
        <p:spPr>
          <a:xfrm>
            <a:off x="2803680" y="1974960"/>
            <a:ext cx="4535280" cy="17618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5"/>
          <p:cNvSpPr/>
          <p:nvPr/>
        </p:nvSpPr>
        <p:spPr>
          <a:xfrm>
            <a:off x="1714680" y="4143240"/>
            <a:ext cx="6143400" cy="100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Прямоугольник 15" descr=""/>
          <p:cNvPicPr/>
          <p:nvPr/>
        </p:nvPicPr>
        <p:blipFill>
          <a:blip r:embed="rId4"/>
          <a:stretch/>
        </p:blipFill>
        <p:spPr>
          <a:xfrm>
            <a:off x="3048120" y="4041720"/>
            <a:ext cx="4005000" cy="181620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4"/>
          <p:cNvSpPr/>
          <p:nvPr/>
        </p:nvSpPr>
        <p:spPr>
          <a:xfrm>
            <a:off x="1714680" y="5143680"/>
            <a:ext cx="6143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Прямоугольник 18" descr=""/>
          <p:cNvPicPr/>
          <p:nvPr/>
        </p:nvPicPr>
        <p:blipFill>
          <a:blip r:embed="rId5"/>
          <a:stretch/>
        </p:blipFill>
        <p:spPr>
          <a:xfrm>
            <a:off x="1987560" y="5041800"/>
            <a:ext cx="5735520" cy="181620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20" descr=""/>
          <p:cNvPicPr/>
          <p:nvPr/>
        </p:nvPicPr>
        <p:blipFill>
          <a:blip r:embed="rId6"/>
          <a:stretch/>
        </p:blipFill>
        <p:spPr>
          <a:xfrm>
            <a:off x="2335320" y="0"/>
            <a:ext cx="425448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428760" y="949320"/>
            <a:ext cx="871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Может ли </a:t>
            </a:r>
            <a:r>
              <a:rPr b="1" lang="ru-RU" sz="5400" spc="-1" strike="noStrike">
                <a:solidFill>
                  <a:srgbClr val="00ffff"/>
                </a:solidFill>
                <a:latin typeface="Calibri"/>
              </a:rPr>
              <a:t>дробь</a:t>
            </a: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, в которой числитель меньше знаменателя, быть равной </a:t>
            </a:r>
            <a:r>
              <a:rPr b="1" lang="ru-RU" sz="5400" spc="-1" strike="noStrike">
                <a:solidFill>
                  <a:srgbClr val="00ffff"/>
                </a:solidFill>
                <a:latin typeface="Calibri"/>
              </a:rPr>
              <a:t>дроби</a:t>
            </a: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, в которой числитель больше знаменателя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Управляющая кнопка: возврат 2">
            <a:hlinkClick r:id="rId1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3"/>
          <p:cNvSpPr/>
          <p:nvPr/>
        </p:nvSpPr>
        <p:spPr>
          <a:xfrm>
            <a:off x="500040" y="0"/>
            <a:ext cx="814392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И пчелы из сказки про Винни-Пуха, и 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дробь</a:t>
            </a: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 8/3 могут быть охарактеризованы ЭТИМ прилагательным. 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0" y="9810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Calibri"/>
              </a:rPr>
              <a:t>Немецкий математик Феликс Клейн, автор многих популярных работ по математике, в числе требований к правильному школьному преподаванию математики одним из важнейших называет устранение этого разделения. Какое разделение имеет в виду Клей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500120" y="395280"/>
            <a:ext cx="7143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Arial"/>
              </a:rPr>
              <a:t>Какой цифрой оканчивается произведение всех чисел от 1001 до 1026?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2"/>
          <p:cNvSpPr/>
          <p:nvPr/>
        </p:nvSpPr>
        <p:spPr>
          <a:xfrm>
            <a:off x="357120" y="428760"/>
            <a:ext cx="1643040" cy="92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3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857160" y="1000080"/>
            <a:ext cx="77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Число, равное квадрату однозначного числа, совпадающего с его второй цифрой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Картинка 7 из 22"/>
          <p:cNvPicPr/>
          <p:nvPr/>
        </p:nvPicPr>
        <p:blipFill>
          <a:blip r:embed="rId1"/>
          <a:srcRect l="62365" t="0" r="0" b="971"/>
          <a:stretch/>
        </p:blipFill>
        <p:spPr>
          <a:xfrm>
            <a:off x="971640" y="549360"/>
            <a:ext cx="2303280" cy="324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492360" y="907920"/>
            <a:ext cx="5327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mbria"/>
              </a:rPr>
              <a:t>Старинная русская мера длин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6" descr="Безымянный2.JPG"/>
          <p:cNvPicPr/>
          <p:nvPr/>
        </p:nvPicPr>
        <p:blipFill>
          <a:blip r:embed="rId1"/>
          <a:srcRect l="0" t="0" r="20313" b="26688"/>
          <a:stretch/>
        </p:blipFill>
        <p:spPr>
          <a:xfrm>
            <a:off x="-880920" y="58680"/>
            <a:ext cx="10024920" cy="6799320"/>
          </a:xfrm>
          <a:prstGeom prst="rect">
            <a:avLst/>
          </a:prstGeom>
          <a:ln w="0">
            <a:noFill/>
          </a:ln>
        </p:spPr>
      </p:pic>
      <p:grpSp>
        <p:nvGrpSpPr>
          <p:cNvPr id="223" name="Группа 17"/>
          <p:cNvGrpSpPr/>
          <p:nvPr/>
        </p:nvGrpSpPr>
        <p:grpSpPr>
          <a:xfrm>
            <a:off x="3000240" y="1000080"/>
            <a:ext cx="6328080" cy="3855960"/>
            <a:chOff x="3000240" y="1000080"/>
            <a:chExt cx="6328080" cy="3855960"/>
          </a:xfrm>
        </p:grpSpPr>
        <p:sp>
          <p:nvSpPr>
            <p:cNvPr id="224" name="TextBox 9"/>
            <p:cNvSpPr/>
            <p:nvPr/>
          </p:nvSpPr>
          <p:spPr>
            <a:xfrm>
              <a:off x="8437680" y="2921760"/>
              <a:ext cx="163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Box 10"/>
            <p:cNvSpPr/>
            <p:nvPr/>
          </p:nvSpPr>
          <p:spPr>
            <a:xfrm>
              <a:off x="8121960" y="1609920"/>
              <a:ext cx="16272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6042240" y="1000080"/>
              <a:ext cx="3286080" cy="305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Группа 16"/>
            <p:cNvGrpSpPr/>
            <p:nvPr/>
          </p:nvGrpSpPr>
          <p:grpSpPr>
            <a:xfrm>
              <a:off x="3000240" y="1485360"/>
              <a:ext cx="4145040" cy="3370680"/>
              <a:chOff x="3000240" y="1485360"/>
              <a:chExt cx="4145040" cy="3370680"/>
            </a:xfrm>
          </p:grpSpPr>
          <p:sp>
            <p:nvSpPr>
              <p:cNvPr id="228" name="TextBox 7"/>
              <p:cNvSpPr/>
              <p:nvPr/>
            </p:nvSpPr>
            <p:spPr>
              <a:xfrm>
                <a:off x="4939920" y="2741040"/>
                <a:ext cx="17280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9" name="Прямоугольник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7000" y="1485360"/>
                <a:ext cx="3507840" cy="257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Прямоугольник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000240" y="3349440"/>
                <a:ext cx="4145040" cy="150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Овал 1"/>
          <p:cNvSpPr/>
          <p:nvPr/>
        </p:nvSpPr>
        <p:spPr>
          <a:xfrm>
            <a:off x="428760" y="357120"/>
            <a:ext cx="192852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1571760" y="857160"/>
            <a:ext cx="692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Кому принадлежит высказывание: «Математику уж за то любить надо, что она ум в порядок приводит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714240" y="2071800"/>
            <a:ext cx="8001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Кто "подчинил" алгебру геометрии, т.е. вывел геометрию на первое место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357120" y="1000080"/>
            <a:ext cx="8358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В какой системе счисления мы выполняем арифметические действия? 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Овал 2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785960" y="1357200"/>
            <a:ext cx="4638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  <a:ea typeface="Times New Roman"/>
              </a:rPr>
              <a:t>Как называются координаты точки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Управляющая кнопка: возврат 2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643120" y="1285920"/>
            <a:ext cx="5286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Утверждение, не требующее доказательст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48:33Z</dcterms:created>
  <dc:creator>ти</dc:creator>
  <dc:description/>
  <dc:language>en-US</dc:language>
  <cp:lastModifiedBy>Admin</cp:lastModifiedBy>
  <dcterms:modified xsi:type="dcterms:W3CDTF">2011-04-21T18:15:28Z</dcterms:modified>
  <cp:revision>130</cp:revision>
  <dc:subject/>
  <dc:title>Слайд 1</dc:title>
</cp:coreProperties>
</file>